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8531-0B77-409A-AD6A-4EBF9B08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400-550C-4219-B446-B247B13E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CE95-040D-40DF-8446-140EC102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39C-D310-49E9-BF5A-EDAAE02D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28B1-C918-44F0-A5F2-A8554193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9468-DACC-4048-8DB5-C5F19989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2550-4C66-4BE2-A493-F7F75E23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A53C-FC34-478C-B6F0-71E14B40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1A60-E46F-4955-9FD9-63484CBB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899C-B57C-4361-BD3E-404BA447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AA8A-69CF-489D-A1AD-97B09B93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D5F-2223-4EB0-898C-EF804D1B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FE18-FA8F-4409-8C51-3967F6AD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D5EF-EDDA-4520-84CB-1E4AE6AC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A58B-940F-4792-AD00-960FCAEE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FDCE-FBE0-4187-8254-8CE75D25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AB9D-0B31-4F4A-8AED-E9A482F0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E0CB8-FCD6-45AE-9C35-200F4DF8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A5FD6-4836-4F21-83BB-9D99436B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5D9E6-4EE5-4393-8AA5-C56F607F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B059-DEF5-4DE0-A0C2-DABF67E8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53151-107C-4BCD-B13F-831D0D3B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F26-78DD-4D13-93E9-11B78468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B4D2F-9B5C-4B85-B8F3-68E51E76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F622C-9A02-442E-8E11-DBF8113C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35EB2-1AF6-4189-8F82-154E0D1B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D8147-C8E5-4C16-844B-366782C4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DC8E3-1715-465D-92F7-9D137103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24863-E236-454C-8798-429E867B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BA697-D215-4827-B0D4-05028F14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FEA0C-3950-4A34-A31F-2FDF21F3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66B72-AFE0-4947-ACDF-727D4878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840D2-E8C5-4F8F-B3AA-77D9F001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47F-BA7F-4943-ADD1-874FFD92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61BB7-8D3B-4F16-AC5C-5D31FBCD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DC071-BF04-4743-899E-079AF0E5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63E84-1B93-4546-A3C9-3F1E836C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71B99-2012-49D1-B1BA-68593936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8A759-6BB5-47CF-871F-C39AB108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48049-9D99-43A0-9450-91C75730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BBA90-9D97-4769-A72F-5C40A27E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20679-E3ED-4F9C-B2F0-0D0DE8D6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ACB36-B109-4339-B793-39634E9B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C260-4B1A-42F5-92CB-20995C3F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6CA6-F432-4C31-86D1-FE469952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5E8-562E-4F4C-93A8-64E53DFC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A3F-6ACE-41B9-82B4-B12F55F6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855-96A1-4CFB-A24D-1B62EEB0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6C51-E54A-4895-AE45-4D268491958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AEFA-003C-45C9-8E57-8E9DBF737BE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5C9E-4D60-4C14-8BA5-3EA0C5E5AF8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BC38-68F9-46FC-B87B-6642678451E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689040" y="2743200"/>
            <a:ext cx="8064360" cy="1468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Economic and cultural factors help America become an imperial pow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MP00640_"/>
          <p:cNvPicPr/>
          <p:nvPr/>
        </p:nvPicPr>
        <p:blipFill>
          <a:blip r:embed="rId2"/>
          <a:stretch/>
        </p:blipFill>
        <p:spPr>
          <a:xfrm>
            <a:off x="3124080" y="609480"/>
            <a:ext cx="256860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perialis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rolling another country politically, economically, and militari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5" descr="http://www.biyokulule.com/sawiro/sawirada_waaweyn/imperialism%20cartoons1.jpg"/>
          <p:cNvPicPr/>
          <p:nvPr/>
        </p:nvPicPr>
        <p:blipFill>
          <a:blip r:embed="rId1"/>
          <a:stretch/>
        </p:blipFill>
        <p:spPr>
          <a:xfrm>
            <a:off x="4343400" y="27432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A.  Three factors of Imperialism*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Economi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mpetition among industrial n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.      Need for raw material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.     new markets for their products (people to sell it to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.      America selling more than it was buying; increase trade/reduce tariff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t all Americans believed in imperialis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5" descr="http://ts1.mm.bing.net/images/thumbnail.aspx?q=1230412453884&amp;id=af9b9f3807d3dc39013b9a332d4435b9&amp;url=http%3a%2f%2fwww.chinahush.com%2fwp-content%2fuploads%2f2010%2f10%2f6.jpg"/>
          <p:cNvPicPr/>
          <p:nvPr/>
        </p:nvPicPr>
        <p:blipFill>
          <a:blip r:embed="rId1"/>
          <a:stretch/>
        </p:blipFill>
        <p:spPr>
          <a:xfrm>
            <a:off x="4568760" y="1905120"/>
            <a:ext cx="4276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4617b"/>
                </a:solidFill>
                <a:latin typeface="Calibri"/>
              </a:rPr>
              <a:t>2.  Political and Military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competi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rong navy and strategic locations for refueling (pacific island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dm. Alfred Mahan wanted military expansion to protect our interes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http://ts4.mm.bing.net/images/thumbnail.aspx?q=1341713812935&amp;id=8f6d8962ade56cb4902f91692d1df74b&amp;url=http%3a%2f%2fwww.gutenberg.org%2ffiles%2f18334%2f18334-h%2fimages%2fwn21-39.jpg"/>
          <p:cNvPicPr/>
          <p:nvPr/>
        </p:nvPicPr>
        <p:blipFill>
          <a:blip r:embed="rId2"/>
          <a:stretch/>
        </p:blipFill>
        <p:spPr>
          <a:xfrm>
            <a:off x="4448160" y="2438280"/>
            <a:ext cx="47070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3.  Racial Superiority 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Anglo-Saxonism: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English-speaking nations had superior character, ideas, and systems of gov’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ifest destin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4" descr="http://books.google.com/books?id=Jho9ySvKDr4C&amp;printsec=frontcover&amp;img=1&amp;zoom=1&amp;edge=curl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.  Why European Expansion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vestment opportunities had slowed due to European infrastructure already develop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.  Matthew C. Perry and Japan </a:t>
            </a: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(1853)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merican businessmen want to trade with Japa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erry convinces Japan to trade with the U.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Japan impressed by ships/technology/weapons and unable to compete with U.S. =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pen trade and Japan adopts western technology and has their own industrial revolu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y 1890, Japan has it’s own empir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US needed a pit stop to Asia/refu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mericans owned sugar plant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awaii allowed for construction of Pearl Harbor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cKinley Tariff (1890)=taxes sugar on US sugar plantation own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Queen Lil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awaii for Hawaiians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ethroned by planters supported by mar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replaced w/ Sanford  Do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1898: Hawaii formally an American territor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E.  Pan-American Conference: 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atin America &amp; the U.S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0520" y="137160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rease the sale of American goods in L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rked towards peace and increase trade between US and LA countries by lowering tariff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lterior motive:  Keep Europeans out of the Western Hemisphere = Monroe Doctr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 countries created Organization of American States- promotes cooperation between countries in W.H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6" descr="latin america population map"/>
          <p:cNvPicPr/>
          <p:nvPr/>
        </p:nvPicPr>
        <p:blipFill>
          <a:blip r:embed="rId2"/>
          <a:stretch/>
        </p:blipFill>
        <p:spPr>
          <a:xfrm>
            <a:off x="4724280" y="1600200"/>
            <a:ext cx="4046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11-01T19:57:29Z</dcterms:modified>
  <cp:revision>19</cp:revision>
  <dc:subject/>
  <dc:title>PowerPoint Presentation</dc:title>
</cp:coreProperties>
</file>